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BEB6-5B9F-4A58-A66F-0F5A1895EB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BC2-4032-4510-A583-55BC83A3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EC1-93A0-4161-B7CB-7B0BA0ED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96C-45FA-4CB8-B720-6A644044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16F-CAAE-4850-9F08-26E8EB83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3966-AF5F-4C15-A2AD-F7BFB9DA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731A-0EB8-4FB2-9517-C5D5E50D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E236-9F7A-4C2C-B25C-FACBDBB7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89F1-4C64-4F81-8D23-2F53F07D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E9A5-F18F-473C-9992-9CDA1718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9E09-616A-4AF4-9CDF-B875E602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9C24-C900-4B76-8F24-92025FF9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3B7-0641-485A-BD3F-8FCB7DF8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BBF7-B11F-463F-8D6D-0BE95111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5845-D5C8-49CB-BCDE-2F2A4A7B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5C43-C0DD-4602-9A89-DE5EBC04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9627-9FB1-4E0D-A8B4-A9AB87E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4FF3-C4E4-4C59-9BE1-1D84CB83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6F3-1DC0-4BFA-9AB0-8B4809CD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0D3-1CA3-4DE6-A1F5-0A216E73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7BF-DB20-48C1-8F5D-2DA37F24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724-093F-44EA-A838-3B16114E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BF2-9475-4A7F-AC2C-528B5D51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461-6BE8-449C-9929-32B52FED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2BA-5E7F-45B6-BB9D-DB67BA7A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2F35-CDE1-4F22-8ED2-AD99815FE7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883C-E05A-4985-AC90-0CAFB8DCE3A3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gks.ru/" TargetMode="External"/><Relationship Id="rId3" Type="http://schemas.openxmlformats.org/officeDocument/2006/relationships/hyperlink" Target="http://www.gks.ru/" TargetMode="External"/><Relationship Id="rId4" Type="http://schemas.openxmlformats.org/officeDocument/2006/relationships/hyperlink" Target="http://www.gks.ru/" TargetMode="External"/><Relationship Id="rId5" Type="http://schemas.openxmlformats.org/officeDocument/2006/relationships/hyperlink" Target="http://www.gks.ru/" TargetMode="External"/><Relationship Id="rId6" Type="http://schemas.openxmlformats.org/officeDocument/2006/relationships/hyperlink" Target="http://leontief.ru/" TargetMode="External"/><Relationship Id="rId7" Type="http://schemas.openxmlformats.org/officeDocument/2006/relationships/hyperlink" Target="http://leontief.ru/" TargetMode="External"/><Relationship Id="rId8" Type="http://schemas.openxmlformats.org/officeDocument/2006/relationships/hyperlink" Target="http://leontief.ru/" TargetMode="External"/><Relationship Id="rId9" Type="http://schemas.openxmlformats.org/officeDocument/2006/relationships/hyperlink" Target="http://leontief.ru/" TargetMode="External"/><Relationship Id="rId10" Type="http://schemas.openxmlformats.org/officeDocument/2006/relationships/hyperlink" Target="http://leontief.ru/" TargetMode="External"/><Relationship Id="rId11" Type="http://schemas.openxmlformats.org/officeDocument/2006/relationships/hyperlink" Target="http://leontief.ru/" TargetMode="External"/><Relationship Id="rId12" Type="http://schemas.openxmlformats.org/officeDocument/2006/relationships/hyperlink" Target="http://www.regionalistica.ru/" TargetMode="External"/><Relationship Id="rId13" Type="http://schemas.openxmlformats.org/officeDocument/2006/relationships/hyperlink" Target="http://www.regionalistica.ru/" TargetMode="External"/><Relationship Id="rId14" Type="http://schemas.openxmlformats.org/officeDocument/2006/relationships/hyperlink" Target="http://www.regionalistica.ru/" TargetMode="External"/><Relationship Id="rId15" Type="http://schemas.openxmlformats.org/officeDocument/2006/relationships/hyperlink" Target="http://www.regionalistica.ru/" TargetMode="External"/><Relationship Id="rId16" Type="http://schemas.openxmlformats.org/officeDocument/2006/relationships/hyperlink" Target="http://www.regionalistica.ru/" TargetMode="External"/><Relationship Id="rId17" Type="http://schemas.openxmlformats.org/officeDocument/2006/relationships/hyperlink" Target="http://www.regionalistica.ru/" TargetMode="External"/><Relationship Id="rId18" Type="http://schemas.openxmlformats.org/officeDocument/2006/relationships/hyperlink" Target="http://www.regionalistica.ru/" TargetMode="External"/><Relationship Id="rId19" Type="http://schemas.openxmlformats.org/officeDocument/2006/relationships/hyperlink" Target="http://www.regionalistica.ru/" TargetMode="External"/><Relationship Id="rId20" Type="http://schemas.openxmlformats.org/officeDocument/2006/relationships/hyperlink" Target="http://www.fpcenter.ru/" TargetMode="External"/><Relationship Id="rId21" Type="http://schemas.openxmlformats.org/officeDocument/2006/relationships/hyperlink" Target="http://www.fpcenter.ru/" TargetMode="External"/><Relationship Id="rId22" Type="http://schemas.openxmlformats.org/officeDocument/2006/relationships/hyperlink" Target="http://www.fpcenter.ru/" TargetMode="External"/><Relationship Id="rId23" Type="http://schemas.openxmlformats.org/officeDocument/2006/relationships/hyperlink" Target="http://www.fpcenter.ru/" TargetMode="External"/><Relationship Id="rId24" Type="http://schemas.openxmlformats.org/officeDocument/2006/relationships/hyperlink" Target="http://www.fpcenter.ru/" TargetMode="External"/><Relationship Id="rId25" Type="http://schemas.openxmlformats.org/officeDocument/2006/relationships/hyperlink" Target="http://www.fpcenter.ru/" TargetMode="External"/><Relationship Id="rId26" Type="http://schemas.openxmlformats.org/officeDocument/2006/relationships/hyperlink" Target="http://www.fpcenter.ru/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0000"/>
            <a:ext cx="7086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39640" y="4571640"/>
            <a:ext cx="5638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91200" y="630864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5514840" cy="3249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истемный анализ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систематизаци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Балансов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ормативн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ртографически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53200" indent="-42192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Росстата –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gks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r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leontief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regionalistica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fpcenter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inregion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0264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15824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io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переводе означает страна, край,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ла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знаков и обладающая некоторой целостностью, взаимосвязанностью составляющих ее элементо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16:08Z</dcterms:created>
  <dc:creator>potasheva</dc:creator>
  <dc:description/>
  <dc:language>en-US</dc:language>
  <cp:lastModifiedBy>LEGION</cp:lastModifiedBy>
  <dcterms:modified xsi:type="dcterms:W3CDTF">2016-01-04T14:04:10Z</dcterms:modified>
  <cp:revision>11</cp:revision>
  <dc:subject/>
  <dc:title>Региональная экономика и управление</dc:title>
</cp:coreProperties>
</file>